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</p:sldMasterIdLst>
  <p:notesMasterIdLst>
    <p:notesMasterId r:id="rId34"/>
  </p:notesMasterIdLst>
  <p:sldIdLst>
    <p:sldId id="256" r:id="rId35"/>
    <p:sldId id="257" r:id="rId36"/>
    <p:sldId id="258" r:id="rId37"/>
    <p:sldId id="259" r:id="rId38"/>
    <p:sldId id="260" r:id="rId39"/>
    <p:sldId id="261" r:id="rId40"/>
    <p:sldId id="262" r:id="rId41"/>
    <p:sldId id="263" r:id="rId42"/>
    <p:sldId id="264" r:id="rId43"/>
    <p:sldId id="265" r:id="rId44"/>
    <p:sldId id="266" r:id="rId45"/>
    <p:sldId id="267" r:id="rId46"/>
    <p:sldId id="268" r:id="rId47"/>
    <p:sldId id="269" r:id="rId48"/>
    <p:sldId id="270" r:id="rId49"/>
    <p:sldId id="271" r:id="rId50"/>
    <p:sldId id="272" r:id="rId51"/>
    <p:sldId id="273" r:id="rId52"/>
    <p:sldId id="274" r:id="rId53"/>
    <p:sldId id="275" r:id="rId54"/>
    <p:sldId id="276" r:id="rId55"/>
    <p:sldId id="277" r:id="rId56"/>
    <p:sldId id="27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notesMaster" Target="notesMasters/notesMaster1.xml"/><Relationship Id="rId35" Type="http://schemas.openxmlformats.org/officeDocument/2006/relationships/slide" Target="slides/slide1.xml"/><Relationship Id="rId36" Type="http://schemas.openxmlformats.org/officeDocument/2006/relationships/slide" Target="slides/slide2.xml"/><Relationship Id="rId37" Type="http://schemas.openxmlformats.org/officeDocument/2006/relationships/slide" Target="slides/slide3.xml"/><Relationship Id="rId38" Type="http://schemas.openxmlformats.org/officeDocument/2006/relationships/slide" Target="slides/slide4.xml"/><Relationship Id="rId39" Type="http://schemas.openxmlformats.org/officeDocument/2006/relationships/slide" Target="slides/slide5.xml"/><Relationship Id="rId40" Type="http://schemas.openxmlformats.org/officeDocument/2006/relationships/slide" Target="slides/slide6.xml"/><Relationship Id="rId41" Type="http://schemas.openxmlformats.org/officeDocument/2006/relationships/slide" Target="slides/slide7.xml"/><Relationship Id="rId42" Type="http://schemas.openxmlformats.org/officeDocument/2006/relationships/slide" Target="slides/slide8.xml"/><Relationship Id="rId43" Type="http://schemas.openxmlformats.org/officeDocument/2006/relationships/slide" Target="slides/slide9.xml"/><Relationship Id="rId44" Type="http://schemas.openxmlformats.org/officeDocument/2006/relationships/slide" Target="slides/slide10.xml"/><Relationship Id="rId45" Type="http://schemas.openxmlformats.org/officeDocument/2006/relationships/slide" Target="slides/slide11.xml"/><Relationship Id="rId46" Type="http://schemas.openxmlformats.org/officeDocument/2006/relationships/slide" Target="slides/slide12.xml"/><Relationship Id="rId47" Type="http://schemas.openxmlformats.org/officeDocument/2006/relationships/slide" Target="slides/slide13.xml"/><Relationship Id="rId48" Type="http://schemas.openxmlformats.org/officeDocument/2006/relationships/slide" Target="slides/slide14.xml"/><Relationship Id="rId49" Type="http://schemas.openxmlformats.org/officeDocument/2006/relationships/slide" Target="slides/slide15.xml"/><Relationship Id="rId50" Type="http://schemas.openxmlformats.org/officeDocument/2006/relationships/slide" Target="slides/slide16.xml"/><Relationship Id="rId51" Type="http://schemas.openxmlformats.org/officeDocument/2006/relationships/slide" Target="slides/slide17.xml"/><Relationship Id="rId52" Type="http://schemas.openxmlformats.org/officeDocument/2006/relationships/slide" Target="slides/slide18.xml"/><Relationship Id="rId53" Type="http://schemas.openxmlformats.org/officeDocument/2006/relationships/slide" Target="slides/slide19.xml"/><Relationship Id="rId54" Type="http://schemas.openxmlformats.org/officeDocument/2006/relationships/slide" Target="slides/slide20.xml"/><Relationship Id="rId55" Type="http://schemas.openxmlformats.org/officeDocument/2006/relationships/slide" Target="slides/slide21.xml"/><Relationship Id="rId56" Type="http://schemas.openxmlformats.org/officeDocument/2006/relationships/slide" Target="slides/slide22.xml"/><Relationship Id="rId57" Type="http://schemas.openxmlformats.org/officeDocument/2006/relationships/slide" Target="slides/slide2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 type="dt" idx="5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 type="ftr" idx="6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 type="sldNum" idx="6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83C9-C5C8-4B75-A543-992EE3246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1637-A798-4216-BCE5-33416074B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96688-C8B1-4C12-91D3-782C921DD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3286-4075-4D96-926B-94A5F2C28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D7FD-E1E9-43CD-A9FC-54C7F992F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1247-6F76-4D59-9D30-582ADA148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9CFE-B4C1-4819-B33C-733E1C6B2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0BBA-C463-47E8-9103-E372E9A99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3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5A6E-8331-4B19-92CA-D1F1561C1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F9E4-4EDE-4E43-AF8A-0804864F2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A922-D107-44C3-8596-873BE5E67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C56F-9AC0-4B81-B34B-1778B91AA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0D52-602C-4EAC-B9A0-15F4CF393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1CFF-8AD0-459F-BED3-134174282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AFCA-F114-4773-8B6B-CCF34BE5E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230F-CCAE-4FB2-9DD3-86CD5E0E8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BB18-033C-4506-BCB1-248BB9301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7F13-500E-4BAC-9725-B4241C884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1801-0F09-4859-92DE-CA8DC7FC4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90D2-C36F-4548-A832-EC2F51045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B808-067A-4DA3-BBF6-D70D6E01A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DA51-7B65-4E64-8BC8-FFCA152FA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6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5528-98E1-41B4-86C3-ACA9669F8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46D6-DC27-437C-B4BC-2E478D5FB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23F4-3451-4B1E-BCCF-944DA0F26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C3FB-7D0E-4923-96D1-80D5C4C3B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E32F-1F81-4E78-8B71-6AB57A185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177F-6D2A-48C4-A501-508088A9F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5651-1C96-49D1-A1C3-9219D9904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4BFA-683A-4593-BE05-EC120B37A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AFD6-69C7-4E70-9A42-3E2811F0A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38EA-7CD9-423E-BB2B-A1EAA5356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DCA6-3B79-42C6-9F05-42B3E8B2D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3CA2-BB67-4FC5-BCB5-FD625BAF0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DE9F-4129-47FC-95B9-6A8BDDB78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304C-36A1-49C7-BE4E-EB339D1C4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827D-7105-43D8-A33C-4C4F51F26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E764-441C-4D88-82E3-D24CAAB50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EA09-F1D9-4709-AC88-B647DE0AD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5C59-409E-48ED-A132-EE5975E69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82D4-7C21-4D0D-9CED-9B9711976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2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48A42-5EB3-4DB8-9BC2-AE1636B074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5E3BB-9365-44EF-9122-E7275B42630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11B83C-AB2E-470D-8A42-70C4DA84F3D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08627B-19CA-401E-B51C-CD05261D4AA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9B2DC8-AF04-4F5E-AED3-89058984EFA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BFE758-D444-4DA1-B329-B328F9EDAE6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155D38-6B95-4D44-ACCE-06EC1B3763B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0809D2-0A25-4061-AC3D-992B8F9753E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C4AF96-A50B-49A2-8D0B-E04B5B755CB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97D4E8-DE43-4057-90AD-0F4A898764F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3F83C8-0BFB-4B2D-98ED-701CE58A9DD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F4F8A7-A0B5-42D4-B8E1-F1CB9576E4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8E05D-40AE-4D25-B7FC-F4200714BB6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23F291-04EB-463E-904E-C5CED9E7CE7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1652F3-D046-4A62-9B4C-6F29C004435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D5C712-5DB5-4712-9EAB-082600F122A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713311-05D0-412B-9DCC-67AC741EE9D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100417-96C1-422B-BE41-F494963E878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E26CD3-4E50-439E-90BD-6EEBFC8AD9A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ABE5B3-269C-4F0B-8206-0AB1E294B35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244635-894A-4264-8407-6B068C9B95F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2CBF4B-C26F-4B19-B876-6883CC43E4A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568B8E-DFA2-46CE-BAD4-D754EDC5A1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3A7CC-D23D-4152-B6C7-9463347D098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BFDD18-A204-437C-9219-C777E425D16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2C9D4-3041-43CB-A6FD-387F1DD0903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3E68F-50FE-463F-AB88-C88D84DA237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C8CB2-9A91-49A1-B775-3826768565D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26AAA-3442-412B-9392-E563F553FD9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3B311-ECCF-429A-A31C-96E3E5BCC78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5B21F-2119-4CA2-82DF-10E10539598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1B170-D6DE-4E0E-8C95-1943D7D9040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3936B-29A6-420D-BAFB-11CAAA9D4DE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62BB2-7FDB-4269-8C30-59029EBBB6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8AE555-9340-4FEE-B04D-FCBDDCA1B34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B0D85-09D5-4AC2-9239-47EC018BA68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AC1E3-CB5C-4687-B2E5-2FD79C00697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6372F-AC2D-4237-9F82-1C807B0EC50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437384-2265-45B3-B9AE-6D769603622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75B132-2AAF-424D-BFF9-F2AE22CAF04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0C5AF4-C122-4458-AEFB-A7DB0D05859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D69A82-A4CB-4050-8CEE-59DC2BCB1BD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566E52-88F0-4CDB-9633-EFD114E4C7D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C894A9-79AD-4CA2-AD0A-D6895CCF192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9069BC-60B3-4FD0-A305-79B0DA661D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4194A-51B5-42C7-AEDD-ABFBFDD0821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D0A548-4779-4054-8FD5-C9B2440143C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62A58B-063C-45EE-908A-0BC16AE8BB8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92FC64-631B-4D59-84A9-AD4E6860CDD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98E2B6-033F-44E2-9107-C0FBBCABAFA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881F8B-4B0F-46E4-9C21-B29F28ED3AC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61915B-DBCE-421F-BCBB-3EF0A7BA1EC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93740B-7398-40E5-9508-E72DE5214B0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486D58-AD0A-4273-98F2-3FF23C33E2C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2EB8B3-9541-4997-91F3-425A0F3E7C0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83B1D6-D6E0-4E1A-8108-0BFA6A50F7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00AA2-B58C-4BC5-857E-6CF1EF99231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18A97D-FE6D-40D5-B0AD-FC6CFC135DC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496068-088D-4921-B780-CF561543DE3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308B17-A968-40CE-8AED-8A47A53BE09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3B5E1B-3ECE-421C-AA50-2B5D05883F5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CF0B1D-9065-47BE-A441-A3C87E509E0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8A32E1-926D-4DBD-A594-686A5DF227C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6EB787-35B5-456B-B2F7-0BBF135BA29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9C9E2-B37F-4158-99C8-82EA8C58E579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2495F-C17E-45CF-9713-2397E345D9D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593FB-A1D0-4E39-8424-8552A49A63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AA779-51D3-445F-8C9A-5849D8F503EF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AD3CA-0B66-4981-BB8A-E0CA19BB3DF2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4CB4D-6B6E-4F5A-AAF9-555714521DE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EFE7A-16F8-4F63-B5C0-060DFD2628C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7A1D2-7AEC-48C7-A35B-99384F47411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CC092-C1DE-4AAB-AB23-F6498CC67356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F5131-7D0B-45B5-AEB8-9207A0601B1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12FCD-A353-4B39-B269-2CB1D510050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16E96-F756-47C6-928E-39711B812E9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9D5D7-CE0D-42C2-9B6B-244D3E832F8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FF902C-CEF7-497C-ABB5-BEE1082FE50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EC9FB0-C80F-4849-9C1F-5635D025F4B4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2D16F2-B666-4FF7-B88C-16075AD9E595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4F4C02-4C25-461F-B787-5667F790E95D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16116C-EF0D-4869-B0E6-4EE5C5303F2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866311-17A7-4B77-B728-1028A8C456F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570A32-658C-41C2-AE03-067341C7128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38B4F7-C9FE-46D6-B202-F3694B01D70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1AEE67-1638-41D0-A609-2E08B2AC169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2EBA0B-D559-4ABD-9703-DE12983FB6CB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A1447B-AB60-4A2F-85F9-9B0E332E8D1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ECC9FF-75CD-44BD-834A-4E8A7D8298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0F30A8-F650-4F33-8562-6C6E57E2A0C4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D7E94C-E3FB-4770-B2C5-9986E4592005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BA1706-1FCE-4FE0-9820-4F3873921DB8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1DA8F5-E4E2-4FFB-B7D1-6F8CD9DE58F9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983566-779A-499A-9757-72D454315E64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82D28D-C60D-485B-9532-4244EDD9439E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5327B6-F876-4C9E-945E-357DA695318E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45569B-0E57-4C84-AB76-A984D265B790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66B75B-DCFF-4A4F-94F2-BC7E38686ED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2EA871-CB5C-453F-8D30-8CC133AA012C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6D5830-50B5-40AD-88A3-CDC1FD6C12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5F357-5E77-439A-B5DA-800BD292EAD3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909B32-E2D7-4961-B3A1-526888FDCAA4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ACD410-E547-4652-B3A0-D5D434937777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B5155E-9390-48CE-8393-0F8A6A408892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D010F3-A855-465A-BB4C-7DF72DC46B01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FF851B-AFA8-4205-A43A-0F6E697C7883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769FAD-503F-4C11-A415-A00BA21B31D5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90E2BD-0AE3-45A3-912D-E0BBA92FEA6F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9F1DFE-05B2-4F1B-9B7F-7633D57F5DD7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D8B6A2-7E3C-4C99-8574-5CB384E492C3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DE7B2E-5D99-4FE2-B0EC-14E80CAC9C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728F3-0E13-46D6-AC2F-3D65F04E81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A10E4-45A6-4717-8836-D9BF6DF12E4A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DDFDF1-D456-472B-AAA7-0D56B00F3257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736FE8-CEAB-4F45-B60E-DEEF5A453F6E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15E17B-21F1-4FF2-B6E2-361654B54F6C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C702D-026D-4438-A57F-0F68DA291A00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6EA862-81AF-493E-AAF5-C18C6A9E3A93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AAB4D54-5BF3-474B-9DB9-7ADBDF9027FA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F776A63-05C8-49F2-BD41-834FC51CDB1B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7DF7343-92E7-4D07-B0F1-3071F77BEA17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DB5F64A-C35C-45F3-BBC3-6C7C2AFA1511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D4BDB23-B28C-4D62-BAD6-6144A0F126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AA167B-A7B0-4206-899D-6B72DC71F95B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5727422-B046-4D0E-BE6B-742B20BD8568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25F7967-55E6-454F-9641-E7EF65298669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24AAD5A-062E-44FE-A2A5-01113F282F7C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CCE8D41-248D-4F66-8F50-B4A0AE8C59DC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156ABAB-C1A6-4BA4-969D-F33F6D45B31D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F3F06A0-0825-44BF-93A9-204A4CC52E2E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540D0AC-8108-4B40-B74A-F44389AA39C5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683BDB-6D8D-427E-82BF-DAA2811FEB38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EFCFB1-BF7F-4DC0-BD93-621ADC980CBC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377D25-CCBC-4373-B016-2317F4DEF0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F1196-ACB4-41FD-9D18-D604F0420C89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BDC3F7-295B-4E3B-865E-80047A104524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8BC61D-4C28-4812-8ABE-DCD946AE7391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66933E-6D54-4E78-91F8-32226FB1D484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1DEDCC-96DB-4BAF-AE60-A4EC2BA9A10A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513920-92CE-44AF-AA89-2C7DB20AAAA0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772CBD-712D-471E-A8E9-3EBB64A707D2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9C2B6B-B7DB-4256-A6C1-D9D454A4B1C1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554C53-19AB-40DA-899D-1D720BE00496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DF864C-4D62-4B43-8DB1-2DB277B75C21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2E87BF-0465-4482-B2ED-7C1A90133CD4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E8340-791E-4398-AB7D-B9294D346353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B0AD78-BAF9-495D-86C1-EF779AEAD59E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18028F-E3C7-4597-8AF2-56F0607D2BBE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A4E256-1DEF-48CD-AA30-187EEF6B93DF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65FF9F-78DC-4891-A494-CE23F3675452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09EBEF-76F4-4560-A994-D119E37FEF8E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7D3F37-E541-4274-8832-BE14F4B52661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75B944-153F-4DB6-B796-2140A7E3CC8D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307E9F-C853-4A6D-BD0D-DCA0EAA55FE3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6593A1-1AFC-4A3E-84B6-2057639D737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374D2-28AE-442E-B21B-37B007671FC0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54CCB1-AA57-4717-A598-4FD5481D91F0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B39D60-ED65-459A-AD30-AA91CAF0BB59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73466A-26EC-44E4-88CC-BF2ED1491498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83FE10-B1FC-4EDD-A0A1-E4DE3F040DB1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0A6A5ED-DA65-4CEA-9DF4-C3A7A0BDB967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22610A7-F09F-4F88-881D-AF24A35A92FD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ACA2465-7E57-4423-937F-04C5C1CF70C2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E5E06A2-DAC3-4831-9896-1F63D94E27F4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306871A-6001-4943-9101-619C6ADD3D8B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CBA7B0D-D463-447E-A964-46047BA0C63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FA0A-0BF0-40BC-A25B-A677C835AB5D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C3E558E-0281-4682-854D-69320D29F038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8CD38C-D8CE-4C6F-BD6F-E132A400747D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E8FC909-763A-42D1-8908-3277D01E6408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AF60A3-62AA-4DDB-877C-8EBA9AA160F9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354B8BA-40B1-476F-9D51-5ABEBCFC45E4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A3BE0F8-6E60-482A-BAE9-B34F79A99D8F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FED510D-BF92-411E-985B-8711790A5B81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C6F1C04-546B-4652-89BD-1543691D13A7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9D34165-8CCB-45A9-8390-71CECE3834BB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5125E01-F06D-4FA7-851F-C87A30DC991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3478C-FE38-4A17-AB4F-3F4A559770AF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1B378BB-8696-424D-8E9B-8BFA74344D05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2D911C1-942A-413D-9766-0CC66DEA77F4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C9E9547-9F91-45F4-80AC-0D204BEFC922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EA5786D-E795-44E1-B4A7-F108ECAC8D1B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3AF168D-D58D-497D-B938-207278214876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531319B-6B49-47B7-8EE5-09BFBB8EE6A5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1584F7E-748F-499F-AA34-CF688B36B9A1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77C640-E6D9-4037-8728-291FCEC778F3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EAE984-45D8-4400-989E-D11B6CF8251F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36EDEF-CBA0-444F-9BC8-6371311B76B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639F-B711-4D82-8044-81A1399BB882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25F17D-2B58-4D78-93CF-EF7B8F395720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B64ADB-2EFA-4D0C-9EE6-8179FA82D208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EDE873-2659-4714-A28D-04D268C5EF4A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2BCF20-D1CE-470C-8A54-E5C21C2ACB4D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E9CB2B-9885-42D5-A027-736A5E56C073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684B7F-F2A7-42DA-BD14-BDC101DBE5F7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AF1D64-5108-4C79-BA16-EF4B4642D91C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BA0756-8D91-493B-B79A-4833F3B17486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72CD35-51B0-4002-9D16-699BDA41BC42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7507C2B-33AE-40BF-BF68-F9AFBDFB821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D148F-2434-4E5A-83F6-6EDB9D6617B7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A26F980-8FC7-4137-842D-F31A1E51A708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65B1E11-CF0E-47F4-8052-BCE31BF930B4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7FAE4BA-74BA-4250-B280-412A4DE70245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2379391-1F89-4FDB-99AB-4C737AA22BF5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A3710B9-3BF8-483C-8168-EE9B2EFE9FBC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FA3F90C-51C6-45C4-BE69-4F0EDD5BAEFB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6C36D1E-5FB5-44D2-8A2A-FDEA47A3636D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AA873FA-AD1A-490C-BBA1-C075D93B8A63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E7631B3-2FC2-4FBF-A2B5-256410C31B96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E651BBE-276E-4B28-82C4-8A70C6DB5C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72EC9-43AC-4BA6-93F1-0B1B11903C8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5F7E-2310-4ABA-9CFD-6473432559C8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D2DCD46-66CE-4180-B1BF-07B86A43E969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E715E12-EA7E-465B-B33F-E6166224EAD8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E63E7B4-560D-4105-9930-889059B2654D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BFE8BBE-E4C1-4B4B-8FF8-7CA0030F444E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8ECD819-C556-40C8-A3D9-4AA0439F33D9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89A937F-9FAF-4925-A3C0-543CCF79A7DF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C96B55E-738A-42B7-9D0F-EFAB7E45C981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CCA8D68-6AA5-4261-9F3F-22E775D08463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61E200F-F0F3-4206-ABEB-823E1E12C81E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79BED5B-131C-4C66-8F1A-45D9B68060E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6E8A-0D14-4D1E-8810-15BA2D964B8A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D1466FA-06E9-4578-AAE5-75AD90546F89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7CCB730-A583-4FD0-AB90-5EF7D240DB35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26A06AF-F776-4C2E-B2FE-93053852C18D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D34B1C-BE73-4A59-9622-8ED026472AC4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7FDC26-CEBF-4148-A8AE-6998448EF557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7C0DEA-5E41-4BBD-A713-9260B5DD98AE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5FD952-8CCC-47D1-96F8-C128CE131E34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AE02E2-CB83-4196-A561-FC52E2FB19AC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D440BD-DA6C-47BB-9A3C-34FA9C0A0542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3D7F78-C42F-4459-8315-40D9310FC53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14F9-9423-42E7-BEED-75F5A112BEFC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E7BE6B-50DE-4AD4-B19D-EA8D301ACE93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A6DAF4-A204-40DF-B5D2-C5C3194CF561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A372BE-C37A-483B-9223-79E2A99DF6D5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B24C35-6F9E-4232-A29D-ABDFF3B08F82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BEF759-CEC7-400E-8ED0-869CBCE7C013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9DD9135-1671-4DE6-8E45-CA0CF133B2C8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9B1CE13-6066-4177-ACD2-7068C9F2A6BF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75B4775-3D20-4347-9AFE-CD52E30E91EE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48E87D3-874D-4E22-A2BD-14C9F22930FE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641B538-3ACF-46A1-9B53-6340A8273B6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60736-0390-485D-8D42-65EC73261DAD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CBC8139-B37E-44D7-AF51-530FA10ECE03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59A9EBB-2742-416D-826F-B01AD1766B17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C0A71C3-43D9-4993-99A6-87F92BD39694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27FF8DB-5BCD-4A33-B6FE-7F78D82CF695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6B510A9-4F52-4BCA-82F3-417FE51113E1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A2162B3-AB00-4F4D-A6C4-30AA8FEE63F5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4C91BA0-6912-444F-BBFF-07F506B75477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C69677B-0795-4D5A-A696-2E49DC0711A3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CD1ACE8-F2F4-45BE-B885-F512DDC8B997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F8311E4-7BBC-43AD-8059-EB22C08F571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B7D37-DC36-4B0E-8FD9-534F2BA59BD6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A5B5890-4019-41BA-BA9A-1037E7E37FD9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1D3ECCA-F3DC-4562-A59B-C05A61303EEB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E8C0EFD-A1D0-42FA-A8C1-2C0B526DD8A5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160947D-CB06-49B3-AB80-AA2240E8F4D7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5BFB5B5-DF46-444C-AC50-0D11D88BF7DD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B24A6EC-A517-4ACC-A7A8-E5BCE29C0472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85B00FE-2EAC-42A5-AC40-F5C2B6ACE0CD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619AFCA-51BD-46A9-B9DD-B6167133CBF9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864CF26-2597-4B8C-9775-2A2C8BB920E0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575B44-6C0F-4B8B-93C6-F8516F8AD97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F388-65A2-45B2-A2D2-1E03D6AEC14C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92DB12-C127-4FC2-BEF4-AFD5CFA87F9B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BB6B28-96B1-4F1D-B694-9DB9084FA511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185116-475F-4026-BB0A-085760E2E20B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165F63-4A90-4901-AA26-439B6CC4E8B8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9AB2F0-EE88-4483-847B-C7D44F6DD342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887415-3940-424A-8FEA-BF74ADE12170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38B677-5F6B-4DC7-B915-A9A6A7FDB632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BE167E-154B-45C5-A866-579D03D0BB4F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BD6844-FC08-48CB-89B5-0B092CA89E1E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F06041-E0F7-48CA-A9E6-61715DFF315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A364-F522-4BA5-96F8-8DD8F6B1654D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246CB4-0B4B-47AB-B4FD-787AF5A991CE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8E53F24-A421-43CB-8026-D81CCA3EE0E0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B5B013C-014E-4DD0-82C0-38A9C6507920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5493BD7-AAAA-4DD3-A65E-597E9B3C7E85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ED8D253-94C5-4161-8379-95A1897AA6DE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8203C36-3977-472B-B136-9B8876C4D709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1147A83-067D-40D8-9C9D-8670AE65C90B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F8BFD9A-1F16-4C83-BEE8-6DD6D4E64C77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5F5A323-000A-4C9F-9169-E8394A5FFBFF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5B2F2EC-E674-4599-9F8C-1C84B3C472B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C687DB-A79D-4D71-A4F6-C7BFE04F9FB6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3C90BBB-777F-4633-9A8B-0C2A2B27D5DC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60A75E2-8B5C-4951-98CF-35DD5230418A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2BCD5AC-AA53-411C-866D-EABB43FBE630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A7DAAC5-7B68-4DED-BEF6-51DA0714CD10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16F7044-E428-4D2B-994A-E17701CCFDB4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F41D0DA-B763-4F42-9092-89FFA8F177E4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9E93435-E18A-4EF5-A6A7-6978FB167EBF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DF118B5-8C73-4F1D-B240-C90150C385E6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DD9F7F2-46A2-4AD5-8990-C615F4EC36F0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F597A24-5371-4F14-8CA8-EF7CA9E6893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6D3613-31AD-40CC-A89C-E50D62FB1325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EE9ACC1-58B7-4630-9EB6-F06611E79588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67E8652-083A-4B37-9316-FB7E5FD8E401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7EFD42E-0D9E-4D9A-A06D-616A3C2469BC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E19AA3C-3BF6-4FCC-80E2-E92726920C88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98A87DD-8AA8-436A-9F5D-AE809A5284F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8A01BA-350A-4042-88E6-E90032E740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81925-1B9C-4F00-9372-8CD394EC658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3AC58C-8E71-4CC7-9B46-318AE6C315F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B33CF9-8D69-46FA-B772-F4475FA3930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DEC316-FC7D-49CB-9513-0E813741EB2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370D0F-DE57-4BDB-A0BF-2E422E390C6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2FD59F-3EE8-482E-BB2D-3C806D0D664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A94934-011D-47CE-B235-9559A713EB5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290D08-9E01-44EB-9DCB-A62CA0EB74F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8070B1-0A29-41C2-95BA-1E72F13D100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CC85F4-BB03-42DC-968F-9995976B534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26182-7A0B-4BA0-A47E-CA82AF3B60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7AC6B-271A-4907-802D-2BE1DEC3B3B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893A5-771A-4F82-8663-242E1D0AF45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8F492-6530-4288-9CE4-E602CD1FD59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DDCA3-CB6C-4307-9A3B-21647A151A0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8037D-59A5-4BE5-AA14-4A60C4A7CBA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20582-6B57-4977-B2CF-24606FD9013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94F12-92E7-4F3C-AC80-2387621A921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66450-3561-47A4-91D3-582DEAD6097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08806-2088-4C51-BCC9-6D13B3B7852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B58FB-5AEE-438E-9693-8F22B644CCD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43C60-2E93-4146-9F57-3A90A6CD57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BD238-EAAE-48FC-BC8E-C66F3C3DA86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0D717-79E6-4DB5-BF16-2EACBB9B5FE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CD5CB1-6C86-4A0C-A5A2-D24574C6693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F30479-8FEE-49AF-8C00-2510D21D3F8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BAC7E9-A964-4587-B7AF-4A079EC3751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3C8E67-92A8-482D-AD1B-8DDAB044E3B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7657CF-B0E5-40FA-897C-F868468766A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B42DE5-F099-48F6-AB9D-64FDF0ED7BB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731F69-14B8-49E9-823F-7F2AF568D14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E7FF28-1131-476A-B4B6-C182010849E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FC7F5B-75C2-4BCB-84E7-F7FF17D421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A47CA-EF69-40FB-8FFD-A87239B18C0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AB77F1-9FF3-4B4C-B394-26B8B8A55BA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F15BD9-7CD7-491E-AEC2-7D2D425208F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434BC8-1973-4BB8-9EDB-5C71BC45A65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EFF8E-46EC-41BD-866A-992D7234FB9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90F6D-5170-4D53-9BE6-D394F9203F8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2F786-3521-41E1-9D3F-F60DDC2328D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C4CDC-8007-4A4E-AC69-A2C56836ED6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652EF-3964-40C8-BD80-CA2E25F947C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A1F27-8471-43C0-99E6-E87890A65B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C978F-80BE-40C0-9543-98A85718241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F71C5-1647-4302-8883-202A8D1EE25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837E0-4BA6-46D9-9172-3AC18DD2038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2209C-4906-4EC1-B544-DA79B300AB4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92F95-52CC-40B4-9BA2-17186336599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7A735-F559-4479-8B78-6945793FE06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6F09C-FF70-4F77-8B23-D10BC9B6A12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776F7-3AC0-4DB2-ABAC-E375CFC22A5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77D21D-957B-4097-87FD-B0E17EBD513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7804CE-8FBF-4DD0-A558-ECBA7CCF582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E0FF17-D187-43DF-910E-33A8F32F35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309000"/>
            <a:ext cx="5257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89FB-2A4C-488F-8C9E-4D794CE517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ftr" idx="1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sldNum" idx="1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0B38-F05A-4B15-9651-DFFF572121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ftr" idx="1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sldNum" idx="1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EBDE-4EAF-456B-B068-5E8498B0C4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ftr" idx="1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sldNum" idx="2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9BC9-C941-45AC-9FBF-4E85C60D75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ftr" idx="2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sldNum" idx="2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7188-5F4D-404C-BD62-69FBF5BBB6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ftr" idx="2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sldNum" idx="2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98C2-8A6A-4F13-8DFD-DE9F41B3E6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ftr" idx="2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sldNum" idx="2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32EE-B6B0-44B9-8011-D504A03366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ftr" idx="2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sldNum" idx="2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30A3-1357-4019-9F60-6F70ACC144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ftr" idx="2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sldNum" idx="3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5193-DF57-42BB-BA75-F39247ED55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 type="ftr" idx="3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 type="sldNum" idx="3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7847-F774-40EF-9608-ACEBF9F03F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ftr" idx="3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sldNum" idx="3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23C1-DC2A-49D9-83D3-552CBF6C7F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5A1F-E639-4822-8E56-36CF56D09B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63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5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6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7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ftr" idx="3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 type="sldNum" idx="3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48BD-B2FF-49E1-A888-942B5CB538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ftr" idx="3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sldNum" idx="3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963A-6473-4EB7-AC8C-68684CB72D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 type="ftr" idx="3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 type="sldNum" idx="4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3AF7-B4A0-40A3-AAA6-9BBC0515DC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 type="ftr" idx="4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 type="sldNum" idx="4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2785-457C-4E6F-982D-10F59BD911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 type="ftr" idx="4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 type="sldNum" idx="4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A858-296E-49AD-A56B-C421E234DA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 type="ftr" idx="4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 type="sldNum" idx="4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B1CE-A5B9-430E-BB76-662DCBA219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ftr" idx="4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sldNum" idx="4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FA76-1492-4F8B-8762-2BBE403C1A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 type="ftr" idx="4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 type="sldNum" idx="5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CCAF-4B3B-4D37-A6CB-D89078556E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 type="ftr" idx="5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 type="sldNum" idx="5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78C8-C530-4A43-BB20-AE63D88259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ftr" idx="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Num" idx="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A1D3-FB7D-4CA1-A093-71F83A6805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 type="ftr" idx="5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 type="sldNum" idx="5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1DE2-D804-4657-931C-A8F29559F5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 type="ftr" idx="5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 type="sldNum" idx="5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13DA-96D5-46A9-B085-B5969768D0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 type="ftr" idx="5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 type="sldNum" idx="5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4752-C7DC-41BB-AD51-3C00AC3E44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ftr" idx="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Num" idx="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93FD-93E2-42CB-B2BE-0E84A97A4F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9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79FE-17B2-4E04-ADB4-F47BAE26C2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5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10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D729-98FE-4846-903E-B36F13EC58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7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10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20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ftr" idx="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sldNum" idx="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5F41-8670-4145-9D93-9B5C47458B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1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1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4876-8D85-4383-8B58-926CF109DF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A5FE-FB8F-401A-AE67-AF43E14C5F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27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630" name="Group 2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31" name="Rectangle 2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2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3" name="Group 2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34" name="Rectangle 2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Rectangle 2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Rectangle 2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Rectangle 2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Rectangle 3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Rectangle 3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Rectangle 3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Rectangle 3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Rectangle 3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Rectangle 3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4" name="Text Box 36"/>
          <p:cNvSpPr/>
          <p:nvPr/>
        </p:nvSpPr>
        <p:spPr>
          <a:xfrm>
            <a:off x="1882800" y="2328840"/>
            <a:ext cx="7184880" cy="16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труктура и содержание «Руководства по качеств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полнительный матери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5" name="Picture 37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B1CD-0946-4469-BFBB-DE29EDE3B9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1"/>
          <p:cNvSpPr>
            <a:spLocks noGrp="1"/>
          </p:cNvSpPr>
          <p:nvPr>
            <p:ph/>
          </p:nvPr>
        </p:nvSpPr>
        <p:spPr>
          <a:xfrm>
            <a:off x="837720" y="1295280"/>
            <a:ext cx="8001000" cy="491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олжностные инструкции, включая требования к квалифик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писок сотруд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графическая схема организации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словия найма на работ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рганизация работы интернов и студ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0" name="Rectangle 4"/>
          <p:cNvSpPr/>
          <p:nvPr/>
        </p:nvSpPr>
        <p:spPr>
          <a:xfrm>
            <a:off x="609480" y="5320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4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ерсо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4550-D403-476F-93FD-BF2E156DD0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5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нтроль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46784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ие руковод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кончательная версия документов: проверка, печатание, подписи, распростра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оддержание конфиденциа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, архив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составление отче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еречень справочных документов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руковод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книг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стать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5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5A36-778A-487F-88D2-476C7BFBCE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86108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2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6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омещения и окружающая сред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762120" y="1695240"/>
            <a:ext cx="8229600" cy="44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лан помещений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зоны ограниченного доступ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лабораторные знаки и указател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требования к окружающей среде в лаборатории (пространство, температура, водо- и электроснабжение, вентиляция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допустимые откло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ABF4-98D7-4E8E-8D99-7EE5E0867F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469800"/>
            <a:ext cx="8229600" cy="15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SimSun"/>
              </a:rPr>
              <a:t>7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Управление оборудованием, реагентами и расходными материалам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15328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кажите, что для каждого наименования оборудования должны быть задокументированные процедуры, обслуживание, контроль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еаген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заявки и пол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асходные материалы – установите порядок управ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AD0E-F687-4643-9DB1-3DBB2D2B2E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609480" y="55224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8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Безопасност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бращение с пробами и материал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езинфек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струкции по пожарной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струкции по работе с опасными химическими веществ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даление отход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терилиза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маркировка материал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8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0247-C15E-4001-ABD4-AA84D1E444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609480" y="572760"/>
            <a:ext cx="79250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9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ы до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947520" y="1482840"/>
            <a:ext cx="773892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ое оборуд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дготовка паци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дентификация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иготовление аликвот и предварительная обработка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транспорти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266F-51F0-4DEF-91B2-344978F513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380880" y="552240"/>
            <a:ext cx="7925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0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а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871200" y="1816200"/>
            <a:ext cx="7815240" cy="34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ое оборуд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ые реаг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алибровка / контроль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а анали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методы валидации/провер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30E7-190E-48E6-BE15-33DAAC6A86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1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а после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8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анализ результа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кончательная проверка биологических значен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спечатка/приготовление копии отчета с результа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едача отч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 (архивирование) отч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заимодействие с органами эпиднадз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1E4E-983E-483C-A8AC-201D86BABA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533520" y="51408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2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нтроль качеств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09480" y="1272960"/>
            <a:ext cx="82296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напоминание о приверженности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сылка на процедуры контрол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боруд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еактив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мпетенций персона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раткое изложение всех процедур контроля качества и ссылки на соответствующие разделы «Руководства по качеству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56B3-9359-4C3F-B04F-0B79109151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7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95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3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рректирующие и предупреждающие действия, внутренний аудит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467840" cy="33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стоянное улучш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анализ и разбор всех проблем и ошиб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нутренние аудиты являются обязательными в соответствии со стандартом ИСО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1518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Slide Number Placeholder 4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57E3-3E68-4106-82D8-F1AC7EE43E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8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649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664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65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66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7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8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9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0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71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3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74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75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6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7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8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9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680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2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4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685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7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8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689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1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692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4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7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698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0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701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3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704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6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F7A0-25D0-4C30-8F23-1DE7239D22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труктура докум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Руководство по качеству»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ложите руководящие принцип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д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боч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стру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ор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7" name="Group 3"/>
          <p:cNvGrpSpPr/>
          <p:nvPr/>
        </p:nvGrpSpPr>
        <p:grpSpPr>
          <a:xfrm>
            <a:off x="5638680" y="2438280"/>
            <a:ext cx="3124440" cy="2935440"/>
            <a:chOff x="5638680" y="2438280"/>
            <a:chExt cx="3124440" cy="2935440"/>
          </a:xfrm>
        </p:grpSpPr>
        <p:pic>
          <p:nvPicPr>
            <p:cNvPr id="1788" name="Picture 4" descr="17_docs_structure"/>
            <p:cNvPicPr/>
            <p:nvPr/>
          </p:nvPicPr>
          <p:blipFill>
            <a:blip r:embed="rId1"/>
            <a:stretch/>
          </p:blipFill>
          <p:spPr>
            <a:xfrm>
              <a:off x="5638680" y="2438280"/>
              <a:ext cx="3124440" cy="29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9" name="TextBox 1"/>
            <p:cNvSpPr/>
            <p:nvPr/>
          </p:nvSpPr>
          <p:spPr>
            <a:xfrm>
              <a:off x="6095880" y="4572000"/>
              <a:ext cx="2057760" cy="64620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роцед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Рабочие инструк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TextBox 2"/>
            <p:cNvSpPr/>
            <p:nvPr/>
          </p:nvSpPr>
          <p:spPr>
            <a:xfrm>
              <a:off x="6545160" y="3777840"/>
              <a:ext cx="1159200" cy="369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роцес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8"/>
            <p:cNvSpPr/>
            <p:nvPr/>
          </p:nvSpPr>
          <p:spPr>
            <a:xfrm>
              <a:off x="6840000" y="3023640"/>
              <a:ext cx="648000" cy="360000"/>
            </a:xfrm>
            <a:prstGeom prst="rect">
              <a:avLst/>
            </a:prstGeom>
            <a:solidFill>
              <a:srgbClr val="78f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Narrow"/>
                  <a:ea typeface="Calibri"/>
                </a:rPr>
                <a:t>водящие принцип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TextBox 8"/>
            <p:cNvSpPr/>
            <p:nvPr/>
          </p:nvSpPr>
          <p:spPr>
            <a:xfrm>
              <a:off x="6948000" y="2819160"/>
              <a:ext cx="396000" cy="180000"/>
            </a:xfrm>
            <a:prstGeom prst="rect">
              <a:avLst/>
            </a:prstGeom>
            <a:solidFill>
              <a:srgbClr val="78f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Narrow"/>
                  <a:ea typeface="Calibri"/>
                </a:rPr>
                <a:t>Руко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3" name="Footer Placeholder 1"/>
          <p:cNvSpPr/>
          <p:nvPr/>
        </p:nvSpPr>
        <p:spPr>
          <a:xfrm>
            <a:off x="457200" y="64008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9C5D-D293-489F-BD1A-F0C8EEE5E7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Управление документаци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797" name="Group 3"/>
          <p:cNvGrpSpPr/>
          <p:nvPr/>
        </p:nvGrpSpPr>
        <p:grpSpPr>
          <a:xfrm>
            <a:off x="4343400" y="4038480"/>
            <a:ext cx="3504960" cy="1981440"/>
            <a:chOff x="4343400" y="4038480"/>
            <a:chExt cx="3504960" cy="1981440"/>
          </a:xfrm>
        </p:grpSpPr>
        <p:sp>
          <p:nvSpPr>
            <p:cNvPr id="1798" name="Text Box 4"/>
            <p:cNvSpPr/>
            <p:nvPr/>
          </p:nvSpPr>
          <p:spPr>
            <a:xfrm>
              <a:off x="5099400" y="4159080"/>
              <a:ext cx="2064240" cy="48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Управление качеств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Oval 5"/>
            <p:cNvSpPr/>
            <p:nvPr/>
          </p:nvSpPr>
          <p:spPr>
            <a:xfrm>
              <a:off x="4343400" y="4038480"/>
              <a:ext cx="35049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Oval 7"/>
            <p:cNvSpPr/>
            <p:nvPr/>
          </p:nvSpPr>
          <p:spPr>
            <a:xfrm>
              <a:off x="6143040" y="4572000"/>
              <a:ext cx="1610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Oval 6"/>
            <p:cNvSpPr/>
            <p:nvPr/>
          </p:nvSpPr>
          <p:spPr>
            <a:xfrm>
              <a:off x="4437720" y="4572000"/>
              <a:ext cx="1610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Text Box 9"/>
            <p:cNvSpPr/>
            <p:nvPr/>
          </p:nvSpPr>
          <p:spPr>
            <a:xfrm>
              <a:off x="6143040" y="4840200"/>
              <a:ext cx="1705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Конкретные СО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Text Box 8"/>
            <p:cNvSpPr/>
            <p:nvPr/>
          </p:nvSpPr>
          <p:spPr>
            <a:xfrm>
              <a:off x="4635000" y="4778280"/>
              <a:ext cx="1231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Система кач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4" name="Group 10"/>
          <p:cNvGrpSpPr/>
          <p:nvPr/>
        </p:nvGrpSpPr>
        <p:grpSpPr>
          <a:xfrm>
            <a:off x="2362320" y="1600200"/>
            <a:ext cx="1936800" cy="1066680"/>
            <a:chOff x="2362320" y="1600200"/>
            <a:chExt cx="1936800" cy="1066680"/>
          </a:xfrm>
        </p:grpSpPr>
        <p:sp>
          <p:nvSpPr>
            <p:cNvPr id="1805" name="Oval 11"/>
            <p:cNvSpPr/>
            <p:nvPr/>
          </p:nvSpPr>
          <p:spPr>
            <a:xfrm>
              <a:off x="2362320" y="1600200"/>
              <a:ext cx="190512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Text Box 12"/>
            <p:cNvSpPr/>
            <p:nvPr/>
          </p:nvSpPr>
          <p:spPr>
            <a:xfrm>
              <a:off x="2391120" y="1817280"/>
              <a:ext cx="190800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Руководства по эксплуатаци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7" name="Group 13"/>
          <p:cNvGrpSpPr/>
          <p:nvPr/>
        </p:nvGrpSpPr>
        <p:grpSpPr>
          <a:xfrm>
            <a:off x="1143000" y="3809880"/>
            <a:ext cx="1371600" cy="1066680"/>
            <a:chOff x="1143000" y="3809880"/>
            <a:chExt cx="1371600" cy="1066680"/>
          </a:xfrm>
        </p:grpSpPr>
        <p:sp>
          <p:nvSpPr>
            <p:cNvPr id="1808" name="Text Box 14"/>
            <p:cNvSpPr/>
            <p:nvPr/>
          </p:nvSpPr>
          <p:spPr>
            <a:xfrm>
              <a:off x="1295640" y="41148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Книг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Oval 15"/>
            <p:cNvSpPr/>
            <p:nvPr/>
          </p:nvSpPr>
          <p:spPr>
            <a:xfrm>
              <a:off x="1143000" y="380988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0" name="Group 16"/>
          <p:cNvGrpSpPr/>
          <p:nvPr/>
        </p:nvGrpSpPr>
        <p:grpSpPr>
          <a:xfrm>
            <a:off x="1600200" y="2590920"/>
            <a:ext cx="1295280" cy="1066680"/>
            <a:chOff x="1600200" y="2590920"/>
            <a:chExt cx="1295280" cy="1066680"/>
          </a:xfrm>
        </p:grpSpPr>
        <p:sp>
          <p:nvSpPr>
            <p:cNvPr id="1811" name="Text Box 17"/>
            <p:cNvSpPr/>
            <p:nvPr/>
          </p:nvSpPr>
          <p:spPr>
            <a:xfrm>
              <a:off x="1676160" y="28954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Стать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Oval 18"/>
            <p:cNvSpPr/>
            <p:nvPr/>
          </p:nvSpPr>
          <p:spPr>
            <a:xfrm>
              <a:off x="1600200" y="25909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3" name="Group 19"/>
          <p:cNvGrpSpPr/>
          <p:nvPr/>
        </p:nvGrpSpPr>
        <p:grpSpPr>
          <a:xfrm>
            <a:off x="4552920" y="1371600"/>
            <a:ext cx="1619280" cy="1038240"/>
            <a:chOff x="4552920" y="1371600"/>
            <a:chExt cx="1619280" cy="1038240"/>
          </a:xfrm>
        </p:grpSpPr>
        <p:sp>
          <p:nvSpPr>
            <p:cNvPr id="1814" name="Text Box 20"/>
            <p:cNvSpPr/>
            <p:nvPr/>
          </p:nvSpPr>
          <p:spPr>
            <a:xfrm>
              <a:off x="4572000" y="152388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Тексты и зако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Oval 21"/>
            <p:cNvSpPr/>
            <p:nvPr/>
          </p:nvSpPr>
          <p:spPr>
            <a:xfrm>
              <a:off x="4552920" y="1371600"/>
              <a:ext cx="161928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6" name="Group 22"/>
          <p:cNvGrpSpPr/>
          <p:nvPr/>
        </p:nvGrpSpPr>
        <p:grpSpPr>
          <a:xfrm>
            <a:off x="1371600" y="5029200"/>
            <a:ext cx="1523880" cy="1066680"/>
            <a:chOff x="1371600" y="5029200"/>
            <a:chExt cx="1523880" cy="1066680"/>
          </a:xfrm>
        </p:grpSpPr>
        <p:sp>
          <p:nvSpPr>
            <p:cNvPr id="1817" name="Oval 23"/>
            <p:cNvSpPr/>
            <p:nvPr/>
          </p:nvSpPr>
          <p:spPr>
            <a:xfrm>
              <a:off x="1476000" y="50292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Text Box 24"/>
            <p:cNvSpPr/>
            <p:nvPr/>
          </p:nvSpPr>
          <p:spPr>
            <a:xfrm>
              <a:off x="1371600" y="53337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Проче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9" name="Line 25"/>
          <p:cNvSpPr/>
          <p:nvPr/>
        </p:nvSpPr>
        <p:spPr>
          <a:xfrm flipH="1">
            <a:off x="2742840" y="5410080"/>
            <a:ext cx="342900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Line 26"/>
          <p:cNvSpPr/>
          <p:nvPr/>
        </p:nvSpPr>
        <p:spPr>
          <a:xfrm flipH="1" flipV="1">
            <a:off x="2438280" y="4419720"/>
            <a:ext cx="2114640" cy="45720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Line 27"/>
          <p:cNvSpPr/>
          <p:nvPr/>
        </p:nvSpPr>
        <p:spPr>
          <a:xfrm flipV="1">
            <a:off x="5099040" y="2437920"/>
            <a:ext cx="82440" cy="213372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Line 28"/>
          <p:cNvSpPr/>
          <p:nvPr/>
        </p:nvSpPr>
        <p:spPr>
          <a:xfrm flipH="1" flipV="1">
            <a:off x="2895480" y="3352680"/>
            <a:ext cx="3353040" cy="1524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Line 29"/>
          <p:cNvSpPr/>
          <p:nvPr/>
        </p:nvSpPr>
        <p:spPr>
          <a:xfrm flipH="1" flipV="1">
            <a:off x="3885840" y="2590920"/>
            <a:ext cx="2438280" cy="2187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Line 30"/>
          <p:cNvSpPr/>
          <p:nvPr/>
        </p:nvSpPr>
        <p:spPr>
          <a:xfrm flipH="1" flipV="1">
            <a:off x="2743200" y="3505320"/>
            <a:ext cx="1892160" cy="127296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Line 31"/>
          <p:cNvSpPr/>
          <p:nvPr/>
        </p:nvSpPr>
        <p:spPr>
          <a:xfrm flipH="1" flipV="1">
            <a:off x="5486040" y="2409840"/>
            <a:ext cx="1143000" cy="2238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Line 32"/>
          <p:cNvSpPr/>
          <p:nvPr/>
        </p:nvSpPr>
        <p:spPr>
          <a:xfrm flipH="1">
            <a:off x="2742840" y="5257800"/>
            <a:ext cx="1714680" cy="15228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Line 33"/>
          <p:cNvSpPr/>
          <p:nvPr/>
        </p:nvSpPr>
        <p:spPr>
          <a:xfrm flipH="1" flipV="1">
            <a:off x="2361960" y="4571640"/>
            <a:ext cx="380988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Text Box 34"/>
          <p:cNvSpPr/>
          <p:nvPr/>
        </p:nvSpPr>
        <p:spPr>
          <a:xfrm>
            <a:off x="6172200" y="2144880"/>
            <a:ext cx="28195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Чтобы не усложнять управление качеств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Список документов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SimSun"/>
              </a:rPr>
              <a:t> +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простая нуме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Ссылки на док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Footer Placeholder 3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64A5-908B-408E-AE91-5638AA6FD9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лючев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868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ть только ОДНА официальная версия «Руководства по качеству»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бота над «Руководством по качеству» никогда не заканчивается, «Руководство» постоянно улучшается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Руководство» должно быть прочитано, понято и принято всем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но должно быть написано ясным, хорошо понятным языком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«Руководстве» должны быть дата и подписи руководителей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дует использовать стандартные заголовки на всех страницах и указывать номер версии каждой процедур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дготовка «Руководства по качеству» – очень большая, но также и очень стоящая и полезная для лаборатории работ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Slide Number Placeholder 2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0B85-EB38-4D6D-95A2-0A47DD7F6C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835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836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0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851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852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853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4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5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6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7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858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0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861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862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3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4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5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6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867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1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872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4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5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876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8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879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1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4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885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7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888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0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891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3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8D60-4434-4473-87EC-CDF15D2EFD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6840" y="399960"/>
            <a:ext cx="7162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уется стандартом ИСО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15189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но стиль и структура не зада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здайте руководящий комит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руководящие принципы для каждого из 12 элементов системы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каждому руководящему принципу сформулируйте цели и распределите ответств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Руководство» должно содержать руководящие принципы в отношении качества и ссылки на процессы и процедур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E076-142E-4C7C-8D35-699001FC37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533520" y="426960"/>
            <a:ext cx="81532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SimSun"/>
              </a:rPr>
              <a:t>(пример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рганизация и управл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литика в области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сонал (образование и обучение персонал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 документации, включая записи, поддержание и архив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мещения и окружающая сре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1552-6E53-438E-A6E8-93B274D8A5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0100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правление оборудованием, реагентами, расходными материал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следования и разработк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(факультативно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до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после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8" name="Rectangle 2"/>
          <p:cNvSpPr/>
          <p:nvPr/>
        </p:nvSpPr>
        <p:spPr>
          <a:xfrm>
            <a:off x="152280" y="48996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ACD7-D9CE-4B78-B688-B0B46F1E05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1"/>
          <p:cNvSpPr>
            <a:spLocks noGrp="1"/>
          </p:cNvSpPr>
          <p:nvPr>
            <p:ph/>
          </p:nvPr>
        </p:nvSpPr>
        <p:spPr>
          <a:xfrm>
            <a:off x="380880" y="1314360"/>
            <a:ext cx="876312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формационная система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еагирование на жалобы – управление нештатными ситуац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едача информации и другие виды взаимо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едупреждающие и корректирующие действия, внутренний 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опросы эти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2" name="Rectangle 2"/>
          <p:cNvSpPr/>
          <p:nvPr/>
        </p:nvSpPr>
        <p:spPr>
          <a:xfrm>
            <a:off x="152280" y="48996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0BF8-68BB-45E2-9A08-8E0A2355E5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1"/>
          <p:cNvSpPr>
            <a:spLocks noGrp="1"/>
          </p:cNvSpPr>
          <p:nvPr>
            <p:ph/>
          </p:nvPr>
        </p:nvSpPr>
        <p:spPr>
          <a:xfrm>
            <a:off x="685440" y="1577520"/>
            <a:ext cx="807732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тория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иды деятель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фера применения «Руководства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бновление «Руководства»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т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чт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гд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6" name="Rectangle 4"/>
          <p:cNvSpPr/>
          <p:nvPr/>
        </p:nvSpPr>
        <p:spPr>
          <a:xfrm>
            <a:off x="609480" y="5749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Вве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5"/>
          <p:cNvSpPr/>
          <p:nvPr/>
        </p:nvSpPr>
        <p:spPr>
          <a:xfrm>
            <a:off x="3581280" y="3909960"/>
            <a:ext cx="33530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г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оч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E6FA-9C5D-40BA-817C-8670D236FA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1"/>
          <p:cNvSpPr>
            <a:spLocks noGrp="1"/>
          </p:cNvSpPr>
          <p:nvPr>
            <p:ph/>
          </p:nvPr>
        </p:nvSpPr>
        <p:spPr>
          <a:xfrm>
            <a:off x="533160" y="1839960"/>
            <a:ext cx="838188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писание организации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юридическая идентифика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требности в ресурс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спределение ответственности и полномоч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1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SimSun"/>
              </a:rPr>
              <a:t>2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Организация и управ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2FFE-658F-4F5A-8A4D-0F3186ABBE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3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олитика в области качеств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762120" y="1220760"/>
            <a:ext cx="82296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фициальное заявление руководства лаборатории о политике в области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ие, что руководитель лаборатории назначит менеджера по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ает определени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мисс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це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о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6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Olga</cp:lastModifiedBy>
  <dcterms:modified xsi:type="dcterms:W3CDTF">2013-05-20T13:01:10Z</dcterms:modified>
  <cp:revision>72</cp:revision>
  <dc:subject/>
  <dc:title>Example of Written Policy CLSI HS1</dc:title>
</cp:coreProperties>
</file>